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942-CF6C-41F2-9B8F-7AD66DFE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9A4-A6B9-4C85-96C7-40DF8ED9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BF9-8CC0-4FC6-863D-B8A7F1D0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886-833D-4D54-BDFC-840F58C1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2EF-7BD2-4277-BB39-2A190736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68C-61F3-4504-A2FF-D90503F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FC9-752E-4050-9E03-43C9FB42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50A-974D-4B84-81AD-22F7A25C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A79-1B80-453D-A7A0-B84A480E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23F-E37B-4D99-9734-DF314188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AFE-639E-47E7-8ACB-458104B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A40-72D6-4337-99E7-17A0D401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FDE6-D3B3-4046-947B-5A7C29B67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your children are writ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n your hands: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are a m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neither forg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r forsakes he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Isaiah 49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fore we were born, you knew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our mothers’ womb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formed u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Psalm 139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fore all beginn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called us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yond all endings,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will remember us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be0e3"/>
                </a:solidFill>
                <a:latin typeface="Arial"/>
              </a:rPr>
              <a:t>Psalm 139: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, O Wisdom, do not for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childr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ike a hen, you gather your chick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Matthew 23:37; Luke 13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7:00Z</dcterms:created>
  <dc:creator>Anon Anon</dc:creator>
  <dc:description/>
  <dc:language>en-US</dc:language>
  <cp:lastModifiedBy>Anon Anon</cp:lastModifiedBy>
  <dcterms:modified xsi:type="dcterms:W3CDTF">2005-08-09T05:06:22Z</dcterms:modified>
  <cp:revision>11</cp:revision>
  <dc:subject/>
  <dc:title>Prayer of Adoration (SLD-2)</dc:title>
</cp:coreProperties>
</file>